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48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6802-7112-453A-9403-0CB21012A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DFC3-EE16-44F2-B7A7-04826D62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C957-3566-4053-A538-BCA246F9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9CEA-0E3B-4EBA-8986-771B952B4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B50C-440A-46E2-9C4C-0970A393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1B70-CFDC-48E8-8564-4920B90B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AC4D-A262-4F1D-9B4A-B2C25503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F301-3E13-4EA7-AEE7-19DE0687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A2FA-89CD-44C2-AC33-C7EF70EF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F0F4-27F2-4FA7-B597-B90E1440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CBCC-FD82-4ACD-BF8B-08E33128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D0A9-7925-4914-AED3-D0297ABD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60AF-11B2-4F44-9BEA-D0B32119F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75720" y="5859360"/>
            <a:ext cx="3952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Exemple de symboles de flow-chart – Symboles de tâch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9560" y="1438200"/>
            <a:ext cx="5924880" cy="397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63800" y="5859360"/>
            <a:ext cx="4981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Exemple de symboles de flow-chart – Symboles de support d’inform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09560" y="549360"/>
            <a:ext cx="5924880" cy="493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72840" y="5859360"/>
            <a:ext cx="3955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Exemple de symboles de flow-chart – Symboles de liais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06640" y="728640"/>
            <a:ext cx="5133960" cy="494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0:02:01Z</dcterms:created>
  <dc:creator>HPM</dc:creator>
  <dc:description/>
  <dc:language>en-US</dc:language>
  <cp:lastModifiedBy>rochas</cp:lastModifiedBy>
  <dcterms:modified xsi:type="dcterms:W3CDTF">2006-08-03T09:13:09Z</dcterms:modified>
  <cp:revision>79</cp:revision>
  <dc:subject/>
  <dc:title>Présentation PowerPoint</dc:title>
</cp:coreProperties>
</file>